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805E-95B3-4BFB-9E3D-9D7D5643C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6C06-E120-4A91-947E-C3E77FC12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F8ED-31C7-424B-AD87-5FF452789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914-3226-42D0-B96C-E6772D8B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A0C-F8FF-46FA-9FBD-8A7A4F1B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7AE4-D2AC-4C68-A276-5321A6BD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8D3-EF3C-4B6C-A249-B04FA5E5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35191-A474-49A5-9D9A-3D2F8F66F8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024B8-FD94-43C7-84D1-3F51036D9D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00B04-7605-42E4-80BD-5E0DA8F3EB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81575-83C2-4B76-8493-BB3E92ADC6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1F118-1E14-4B36-B6A8-756C39D67B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823DD-AB0B-4C9D-B8AB-BAC43741F9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6364B-EDDF-4F01-B69B-E8FBAE888A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C77-5953-4CAC-9B78-55EB50A5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32C67-B78A-462D-A264-4C26DBE556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30A21-DAF5-4369-91EB-536D01AD38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C8F6B-1FAC-44C4-889E-DF771A9512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AD8E2-492D-49D7-BF0A-86365B3032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33927-13C0-4D2E-ADAF-720CE99D8E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EA78-416F-4B0F-9C6B-4A1F55D4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676E-9219-479B-A088-1093C2D5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1D6-7CB0-4910-BB5C-A4547EE6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3A5-0393-4CC9-9B48-F9C76C50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DC3-FD35-4188-9A2D-A14CC6E2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4100-C9A3-4F35-86CF-25013C20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B28F-CB07-4860-A9E3-133A8E90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A122-A0F1-4C9F-A162-F6A895FA6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3"/>
          <a:stretch/>
        </p:blipFill>
        <p:spPr>
          <a:xfrm>
            <a:off x="7758000" y="115920"/>
            <a:ext cx="1300320" cy="590400"/>
          </a:xfrm>
          <a:prstGeom prst="rect">
            <a:avLst/>
          </a:prstGeom>
          <a:ln w="0">
            <a:noFill/>
          </a:ln>
        </p:spPr>
      </p:pic>
      <p:pic>
        <p:nvPicPr>
          <p:cNvPr id="42" name="image.pdf" descr="image.pdf"/>
          <p:cNvPicPr/>
          <p:nvPr/>
        </p:nvPicPr>
        <p:blipFill>
          <a:blip r:embed="rId4"/>
          <a:stretch/>
        </p:blipFill>
        <p:spPr>
          <a:xfrm>
            <a:off x="0" y="6224760"/>
            <a:ext cx="9145440" cy="156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FC62-7E14-464E-8E66-C1F8F5B497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六节    金融期货的投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480" y="1213920"/>
            <a:ext cx="8429400" cy="52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投机的定义与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机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机是指借助对金融期货市场价格变动趋势的预测，低买高卖而获利的交易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机的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投机与赌博的区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风险来源不同；对社会经济的作用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投机与投资的区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机者是风险偏好者，投资者是风险厌恶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圆角矩形 3"/>
          <p:cNvGrpSpPr/>
          <p:nvPr/>
        </p:nvGrpSpPr>
        <p:grpSpPr>
          <a:xfrm>
            <a:off x="633240" y="254160"/>
            <a:ext cx="3186360" cy="399960"/>
            <a:chOff x="633240" y="254160"/>
            <a:chExt cx="3186360" cy="399960"/>
          </a:xfrm>
        </p:grpSpPr>
        <p:sp>
          <p:nvSpPr>
            <p:cNvPr id="171" name="圆角矩形"/>
            <p:cNvSpPr/>
            <p:nvPr/>
          </p:nvSpPr>
          <p:spPr>
            <a:xfrm>
              <a:off x="633240" y="254160"/>
              <a:ext cx="3186360" cy="39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05f"/>
                </a:gs>
                <a:gs pos="100000">
                  <a:srgbClr val="298aa3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国债期货机构化特征明显"/>
            <p:cNvSpPr/>
            <p:nvPr/>
          </p:nvSpPr>
          <p:spPr>
            <a:xfrm>
              <a:off x="647640" y="280440"/>
              <a:ext cx="31572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20880" bIns="208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国债期货交易策略框架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939960" y="731880"/>
            <a:ext cx="6872040" cy="54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圆角矩形 3"/>
          <p:cNvGrpSpPr/>
          <p:nvPr/>
        </p:nvGrpSpPr>
        <p:grpSpPr>
          <a:xfrm>
            <a:off x="642960" y="254160"/>
            <a:ext cx="3779640" cy="399960"/>
            <a:chOff x="642960" y="254160"/>
            <a:chExt cx="3779640" cy="399960"/>
          </a:xfrm>
        </p:grpSpPr>
        <p:sp>
          <p:nvSpPr>
            <p:cNvPr id="175" name="圆角矩形"/>
            <p:cNvSpPr/>
            <p:nvPr/>
          </p:nvSpPr>
          <p:spPr>
            <a:xfrm>
              <a:off x="642960" y="254160"/>
              <a:ext cx="3779640" cy="39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05f"/>
                </a:gs>
                <a:gs pos="100000">
                  <a:srgbClr val="298aa3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银行保险是债券的最主要持有者"/>
            <p:cNvSpPr/>
            <p:nvPr/>
          </p:nvSpPr>
          <p:spPr>
            <a:xfrm>
              <a:off x="657360" y="280440"/>
              <a:ext cx="3750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20880" bIns="208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交易类型客户可应用策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3456000" cy="31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2600" indent="-211320" algn="just">
              <a:lnSpc>
                <a:spcPct val="120000"/>
              </a:lnSpc>
              <a:spcBef>
                <a:spcPts val="499"/>
              </a:spcBef>
              <a:buClr>
                <a:srgbClr val="33cc33"/>
              </a:buClr>
              <a:buFont typeface="华文楷体"/>
              <a:buChar char="■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潜在客户群体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11320" algn="just">
              <a:lnSpc>
                <a:spcPct val="12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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券商自营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11320" algn="just">
              <a:lnSpc>
                <a:spcPct val="12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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金专户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11320" algn="just">
              <a:lnSpc>
                <a:spcPct val="12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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私募公司（量化、宏观对冲）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3780000" y="836640"/>
            <a:ext cx="48193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圆角矩形 3"/>
          <p:cNvGrpSpPr/>
          <p:nvPr/>
        </p:nvGrpSpPr>
        <p:grpSpPr>
          <a:xfrm>
            <a:off x="633240" y="254160"/>
            <a:ext cx="2808360" cy="399960"/>
            <a:chOff x="633240" y="254160"/>
            <a:chExt cx="2808360" cy="399960"/>
          </a:xfrm>
        </p:grpSpPr>
        <p:sp>
          <p:nvSpPr>
            <p:cNvPr id="180" name="圆角矩形"/>
            <p:cNvSpPr/>
            <p:nvPr/>
          </p:nvSpPr>
          <p:spPr>
            <a:xfrm>
              <a:off x="633240" y="254160"/>
              <a:ext cx="2808360" cy="39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05f"/>
                </a:gs>
                <a:gs pos="100000">
                  <a:srgbClr val="298aa3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对市场的行情"/>
            <p:cNvSpPr/>
            <p:nvPr/>
          </p:nvSpPr>
          <p:spPr>
            <a:xfrm>
              <a:off x="647640" y="280440"/>
              <a:ext cx="27792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20880" bIns="208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方向性交易策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2" name="内容占位符 2" descr=""/>
          <p:cNvPicPr/>
          <p:nvPr/>
        </p:nvPicPr>
        <p:blipFill>
          <a:blip r:embed="rId1"/>
          <a:stretch/>
        </p:blipFill>
        <p:spPr>
          <a:xfrm>
            <a:off x="139680" y="768240"/>
            <a:ext cx="3414600" cy="5540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3297240" y="814320"/>
            <a:ext cx="583236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圆角矩形 3"/>
          <p:cNvGrpSpPr/>
          <p:nvPr/>
        </p:nvGrpSpPr>
        <p:grpSpPr>
          <a:xfrm>
            <a:off x="633240" y="254160"/>
            <a:ext cx="2808360" cy="399960"/>
            <a:chOff x="633240" y="254160"/>
            <a:chExt cx="2808360" cy="399960"/>
          </a:xfrm>
        </p:grpSpPr>
        <p:sp>
          <p:nvSpPr>
            <p:cNvPr id="185" name="圆角矩形"/>
            <p:cNvSpPr/>
            <p:nvPr/>
          </p:nvSpPr>
          <p:spPr>
            <a:xfrm>
              <a:off x="633240" y="254160"/>
              <a:ext cx="2808360" cy="39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05f"/>
                </a:gs>
                <a:gs pos="100000">
                  <a:srgbClr val="298aa3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对市场的行情"/>
            <p:cNvSpPr/>
            <p:nvPr/>
          </p:nvSpPr>
          <p:spPr>
            <a:xfrm>
              <a:off x="647640" y="280440"/>
              <a:ext cx="27792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20880" bIns="208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投机交易策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内容占位符 2"/>
          <p:cNvSpPr/>
          <p:nvPr/>
        </p:nvSpPr>
        <p:spPr>
          <a:xfrm>
            <a:off x="179280" y="836640"/>
            <a:ext cx="2546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24000" indent="-324000" algn="just">
              <a:lnSpc>
                <a:spcPct val="130000"/>
              </a:lnSpc>
              <a:buClr>
                <a:srgbClr val="33cc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机交易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00000"/>
              </a:lnSpc>
              <a:buClr>
                <a:srgbClr val="1b2e7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本面：经济增长指标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业增加值，通货膨胀类指标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C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00000"/>
              </a:lnSpc>
              <a:buClr>
                <a:srgbClr val="1b2e7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政策面：货币政策，财政政策（货币政策执行报告、央行例会等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00000"/>
              </a:lnSpc>
              <a:buClr>
                <a:srgbClr val="1b2e7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资金面：资金供求关系（关注银行间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回购利率等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00000"/>
              </a:lnSpc>
              <a:buClr>
                <a:srgbClr val="1b2e7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市场情绪、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00000"/>
              </a:lnSpc>
              <a:buClr>
                <a:srgbClr val="1b2e7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技术面分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30000"/>
              </a:lnSpc>
              <a:buClr>
                <a:srgbClr val="33cc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30000"/>
              </a:lnSpc>
              <a:buClr>
                <a:srgbClr val="33cc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30000"/>
              </a:lnSpc>
              <a:buClr>
                <a:srgbClr val="33cc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50000"/>
              </a:lnSpc>
              <a:spcBef>
                <a:spcPts val="7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6427800" cy="165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2725560" y="3141720"/>
            <a:ext cx="63295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圆角矩形 3"/>
          <p:cNvGrpSpPr/>
          <p:nvPr/>
        </p:nvGrpSpPr>
        <p:grpSpPr>
          <a:xfrm>
            <a:off x="633240" y="254160"/>
            <a:ext cx="2808360" cy="399960"/>
            <a:chOff x="633240" y="254160"/>
            <a:chExt cx="2808360" cy="399960"/>
          </a:xfrm>
        </p:grpSpPr>
        <p:sp>
          <p:nvSpPr>
            <p:cNvPr id="191" name="圆角矩形"/>
            <p:cNvSpPr/>
            <p:nvPr/>
          </p:nvSpPr>
          <p:spPr>
            <a:xfrm>
              <a:off x="633240" y="254160"/>
              <a:ext cx="2808360" cy="39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05f"/>
                </a:gs>
                <a:gs pos="100000">
                  <a:srgbClr val="298aa3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对市场的行情"/>
            <p:cNvSpPr/>
            <p:nvPr/>
          </p:nvSpPr>
          <p:spPr>
            <a:xfrm>
              <a:off x="647640" y="280440"/>
              <a:ext cx="27792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20880" bIns="208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投机交易策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224000" y="836640"/>
            <a:ext cx="6966000" cy="52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8840" y="428400"/>
            <a:ext cx="62863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机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者分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71400"/>
            <a:ext cx="86644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按交易部位分：多头投机商     空头投机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按交易量大小分：大部位持有者 小部位持有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按分析方法分：   基本分析派   技术分析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按交易方式分：部位交易者  日交易者 抢帽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投机与套利的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区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交易方式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盈利来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承受风险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交易成本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参加期货交易目的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对待风险态度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持仓时间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投机在期货交易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承担金融风险，为套期保值者转移金融风险提供必要条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平衡期货交易的供求，保持均衡价格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增加市场的流动性，为套期保值提供交易上的便利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金融期货的投机策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一）金融期货多头投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含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多头投机是指投机者预计某种期货合约的期货价格将上涨，从而买进该期货合约，以期在市场价格上涨时通过对冲而获利的交易策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例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，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&amp;P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数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指数期货合约价格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4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某投机者预计该期货合约的期货价格将上涨，故买进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该期货合约，价值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4 ×500 ×10=$15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，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&amp;P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数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5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指数期货合约价格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7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卖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该期货合约，价值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7 ×500 ×10=$158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果：获利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$1585000 - $1520000 = $6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，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&amp;P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数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90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指数期货合约价格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88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卖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该期货合约，价值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88 ×500 ×10=$144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果：亏损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$1440000 - $1520000 = -$8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23760" y="1230480"/>
            <a:ext cx="9144000" cy="37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672640" y="406440"/>
            <a:ext cx="44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7920" y="339840"/>
            <a:ext cx="68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38080" y="228600"/>
            <a:ext cx="6859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661480" y="395280"/>
            <a:ext cx="44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647080" y="380880"/>
            <a:ext cx="44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2"/>
          <p:cNvGrpSpPr/>
          <p:nvPr/>
        </p:nvGrpSpPr>
        <p:grpSpPr>
          <a:xfrm>
            <a:off x="0" y="2128680"/>
            <a:ext cx="9143640" cy="4728960"/>
            <a:chOff x="0" y="2128680"/>
            <a:chExt cx="9143640" cy="4728960"/>
          </a:xfrm>
        </p:grpSpPr>
        <p:grpSp>
          <p:nvGrpSpPr>
            <p:cNvPr id="106" name="Group 13"/>
            <p:cNvGrpSpPr/>
            <p:nvPr/>
          </p:nvGrpSpPr>
          <p:grpSpPr>
            <a:xfrm>
              <a:off x="0" y="2128680"/>
              <a:ext cx="9143280" cy="4728600"/>
              <a:chOff x="0" y="2128680"/>
              <a:chExt cx="9143280" cy="4728600"/>
            </a:xfrm>
          </p:grpSpPr>
          <p:sp>
            <p:nvSpPr>
              <p:cNvPr id="107" name="Rectangle 14"/>
              <p:cNvSpPr/>
              <p:nvPr/>
            </p:nvSpPr>
            <p:spPr>
              <a:xfrm>
                <a:off x="0" y="2128680"/>
                <a:ext cx="9141840" cy="4727160"/>
              </a:xfrm>
              <a:prstGeom prst="rect">
                <a:avLst/>
              </a:prstGeom>
              <a:solidFill>
                <a:srgbClr val="f0f0f0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15"/>
              <p:cNvSpPr/>
              <p:nvPr/>
            </p:nvSpPr>
            <p:spPr>
              <a:xfrm>
                <a:off x="0" y="2128680"/>
                <a:ext cx="9141840" cy="4727160"/>
              </a:xfrm>
              <a:prstGeom prst="rect">
                <a:avLst/>
              </a:prstGeom>
              <a:solidFill>
                <a:srgbClr val="f0f0f0"/>
              </a:solidFill>
              <a:ln cap="rnd" w="0">
                <a:solidFill>
                  <a:srgbClr val="ffffff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16"/>
              <p:cNvSpPr/>
              <p:nvPr/>
            </p:nvSpPr>
            <p:spPr>
              <a:xfrm>
                <a:off x="0" y="2128680"/>
                <a:ext cx="9143280" cy="47286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17"/>
              <p:cNvSpPr/>
              <p:nvPr/>
            </p:nvSpPr>
            <p:spPr>
              <a:xfrm>
                <a:off x="0" y="2128680"/>
                <a:ext cx="9141840" cy="4727160"/>
              </a:xfrm>
              <a:prstGeom prst="rect">
                <a:avLst/>
              </a:prstGeom>
              <a:solidFill>
                <a:srgbClr val="f0f0f0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Rectangle 18"/>
            <p:cNvSpPr/>
            <p:nvPr/>
          </p:nvSpPr>
          <p:spPr>
            <a:xfrm>
              <a:off x="0" y="2128680"/>
              <a:ext cx="9143640" cy="4728960"/>
            </a:xfrm>
            <a:prstGeom prst="rect">
              <a:avLst/>
            </a:prstGeom>
            <a:noFill/>
            <a:ln cap="rnd" w="9360">
              <a:solidFill>
                <a:srgbClr val="96969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20"/>
          <p:cNvSpPr/>
          <p:nvPr/>
        </p:nvSpPr>
        <p:spPr>
          <a:xfrm>
            <a:off x="480960" y="1873080"/>
            <a:ext cx="2590920" cy="39060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480960" y="1873080"/>
            <a:ext cx="1800" cy="3128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480960" y="1873080"/>
            <a:ext cx="2590920" cy="18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3"/>
          <p:cNvSpPr/>
          <p:nvPr/>
        </p:nvSpPr>
        <p:spPr>
          <a:xfrm>
            <a:off x="3071880" y="1873080"/>
            <a:ext cx="1440" cy="3128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24"/>
          <p:cNvSpPr/>
          <p:nvPr/>
        </p:nvSpPr>
        <p:spPr>
          <a:xfrm>
            <a:off x="7872480" y="6472080"/>
            <a:ext cx="1066680" cy="3114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672" h="196">
                <a:moveTo>
                  <a:pt x="78" y="0"/>
                </a:moveTo>
                <a:lnTo>
                  <a:pt x="62" y="2"/>
                </a:lnTo>
                <a:lnTo>
                  <a:pt x="48" y="6"/>
                </a:lnTo>
                <a:lnTo>
                  <a:pt x="34" y="13"/>
                </a:lnTo>
                <a:lnTo>
                  <a:pt x="23" y="23"/>
                </a:lnTo>
                <a:lnTo>
                  <a:pt x="13" y="34"/>
                </a:lnTo>
                <a:lnTo>
                  <a:pt x="6" y="48"/>
                </a:lnTo>
                <a:lnTo>
                  <a:pt x="2" y="62"/>
                </a:lnTo>
                <a:lnTo>
                  <a:pt x="0" y="78"/>
                </a:lnTo>
                <a:lnTo>
                  <a:pt x="0" y="118"/>
                </a:lnTo>
                <a:lnTo>
                  <a:pt x="2" y="134"/>
                </a:lnTo>
                <a:lnTo>
                  <a:pt x="6" y="148"/>
                </a:lnTo>
                <a:lnTo>
                  <a:pt x="13" y="162"/>
                </a:lnTo>
                <a:lnTo>
                  <a:pt x="23" y="173"/>
                </a:lnTo>
                <a:lnTo>
                  <a:pt x="34" y="183"/>
                </a:lnTo>
                <a:lnTo>
                  <a:pt x="48" y="190"/>
                </a:lnTo>
                <a:lnTo>
                  <a:pt x="62" y="194"/>
                </a:lnTo>
                <a:lnTo>
                  <a:pt x="78" y="196"/>
                </a:lnTo>
                <a:lnTo>
                  <a:pt x="594" y="196"/>
                </a:lnTo>
                <a:lnTo>
                  <a:pt x="610" y="194"/>
                </a:lnTo>
                <a:lnTo>
                  <a:pt x="624" y="190"/>
                </a:lnTo>
                <a:lnTo>
                  <a:pt x="638" y="183"/>
                </a:lnTo>
                <a:lnTo>
                  <a:pt x="649" y="173"/>
                </a:lnTo>
                <a:lnTo>
                  <a:pt x="659" y="162"/>
                </a:lnTo>
                <a:lnTo>
                  <a:pt x="666" y="148"/>
                </a:lnTo>
                <a:lnTo>
                  <a:pt x="670" y="134"/>
                </a:lnTo>
                <a:lnTo>
                  <a:pt x="672" y="118"/>
                </a:lnTo>
                <a:lnTo>
                  <a:pt x="672" y="78"/>
                </a:lnTo>
                <a:lnTo>
                  <a:pt x="670" y="62"/>
                </a:lnTo>
                <a:lnTo>
                  <a:pt x="666" y="48"/>
                </a:lnTo>
                <a:lnTo>
                  <a:pt x="659" y="34"/>
                </a:lnTo>
                <a:lnTo>
                  <a:pt x="649" y="23"/>
                </a:lnTo>
                <a:lnTo>
                  <a:pt x="638" y="13"/>
                </a:lnTo>
                <a:lnTo>
                  <a:pt x="624" y="6"/>
                </a:lnTo>
                <a:lnTo>
                  <a:pt x="610" y="2"/>
                </a:lnTo>
                <a:lnTo>
                  <a:pt x="594" y="0"/>
                </a:lnTo>
                <a:lnTo>
                  <a:pt x="78" y="0"/>
                </a:lnTo>
                <a:close/>
              </a:path>
            </a:pathLst>
          </a:custGeom>
          <a:solidFill>
            <a:srgbClr val="000066"/>
          </a:solidFill>
          <a:ln w="19080">
            <a:solidFill>
              <a:srgbClr val="fdb9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7948440" y="6472080"/>
            <a:ext cx="91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3147840" y="1484280"/>
            <a:ext cx="564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3300480" y="15508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4321080" y="1568520"/>
            <a:ext cx="36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1"/>
          <p:cNvSpPr/>
          <p:nvPr/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2575080" y="284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4"/>
          <p:cNvSpPr/>
          <p:nvPr/>
        </p:nvSpPr>
        <p:spPr>
          <a:xfrm flipV="1">
            <a:off x="1600200" y="31240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5"/>
          <p:cNvSpPr/>
          <p:nvPr/>
        </p:nvSpPr>
        <p:spPr>
          <a:xfrm>
            <a:off x="1600200" y="45720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6"/>
          <p:cNvSpPr/>
          <p:nvPr/>
        </p:nvSpPr>
        <p:spPr>
          <a:xfrm flipV="1">
            <a:off x="2971800" y="3352320"/>
            <a:ext cx="220968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7"/>
          <p:cNvSpPr/>
          <p:nvPr/>
        </p:nvSpPr>
        <p:spPr>
          <a:xfrm>
            <a:off x="1600200" y="3962520"/>
            <a:ext cx="2971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8"/>
          <p:cNvSpPr/>
          <p:nvPr/>
        </p:nvSpPr>
        <p:spPr>
          <a:xfrm>
            <a:off x="1600200" y="510552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9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0"/>
          <p:cNvSpPr/>
          <p:nvPr/>
        </p:nvSpPr>
        <p:spPr>
          <a:xfrm>
            <a:off x="4572000" y="3962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6815880" y="4568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市场价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1189800" y="268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1189800" y="5583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4"/>
          <p:cNvSpPr/>
          <p:nvPr/>
        </p:nvSpPr>
        <p:spPr>
          <a:xfrm>
            <a:off x="1600200" y="45720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45"/>
          <p:cNvSpPr/>
          <p:nvPr/>
        </p:nvSpPr>
        <p:spPr>
          <a:xfrm>
            <a:off x="1600200" y="510552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6"/>
          <p:cNvSpPr/>
          <p:nvPr/>
        </p:nvSpPr>
        <p:spPr>
          <a:xfrm>
            <a:off x="1600200" y="3962520"/>
            <a:ext cx="2971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47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8"/>
          <p:cNvSpPr/>
          <p:nvPr/>
        </p:nvSpPr>
        <p:spPr>
          <a:xfrm>
            <a:off x="3735360" y="4952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买入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9"/>
          <p:cNvSpPr/>
          <p:nvPr/>
        </p:nvSpPr>
        <p:spPr>
          <a:xfrm>
            <a:off x="4497480" y="4572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卖出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3202200" y="419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卖出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129708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57120" y="1000080"/>
            <a:ext cx="8429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含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空头投机是指投机者预计某种期货合约的期货价格将下跌，从而卖出该期货合约，以期在市场价格下跌时通过对冲而获利的交易策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例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，某投机者预计该期货合约的期货价格将下跌，故卖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加元期货合约，加元期货价格：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加元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=0.8797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美元，合约价值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$0.8797×100,000×10=$897,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,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买入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加元期货合约，加元期货价格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加元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=0.8739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美元，合约价值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$0.8739 ×100,000 ×10=$873,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获利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$897,700-$873,900=$5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二）金融期货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空头投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176040" y="236520"/>
            <a:ext cx="7012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672640" y="406440"/>
            <a:ext cx="44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77920" y="339840"/>
            <a:ext cx="68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52360" y="314280"/>
            <a:ext cx="68598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661480" y="395280"/>
            <a:ext cx="44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2647080" y="380880"/>
            <a:ext cx="44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8"/>
          <p:cNvSpPr/>
          <p:nvPr/>
        </p:nvSpPr>
        <p:spPr>
          <a:xfrm>
            <a:off x="7948440" y="6472080"/>
            <a:ext cx="91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9"/>
          <p:cNvSpPr/>
          <p:nvPr/>
        </p:nvSpPr>
        <p:spPr>
          <a:xfrm>
            <a:off x="3147840" y="1484280"/>
            <a:ext cx="564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3300480" y="15508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2575080" y="284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685800" y="2666880"/>
            <a:ext cx="8458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6"/>
          <p:cNvSpPr/>
          <p:nvPr/>
        </p:nvSpPr>
        <p:spPr>
          <a:xfrm flipV="1">
            <a:off x="2362320" y="2743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2362320" y="42670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8"/>
          <p:cNvSpPr/>
          <p:nvPr/>
        </p:nvSpPr>
        <p:spPr>
          <a:xfrm flipV="1">
            <a:off x="2362320" y="2743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2362320" y="42670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0"/>
          <p:cNvSpPr/>
          <p:nvPr/>
        </p:nvSpPr>
        <p:spPr>
          <a:xfrm>
            <a:off x="3505320" y="2895480"/>
            <a:ext cx="190476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2362320" y="3657600"/>
            <a:ext cx="16761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2362320" y="4876920"/>
            <a:ext cx="2590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3"/>
          <p:cNvSpPr/>
          <p:nvPr/>
        </p:nvSpPr>
        <p:spPr>
          <a:xfrm>
            <a:off x="4038480" y="36576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4"/>
          <p:cNvSpPr/>
          <p:nvPr/>
        </p:nvSpPr>
        <p:spPr>
          <a:xfrm>
            <a:off x="4952880" y="42670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181476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1951920" y="245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1875600" y="565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8"/>
          <p:cNvSpPr/>
          <p:nvPr/>
        </p:nvSpPr>
        <p:spPr>
          <a:xfrm>
            <a:off x="3659400" y="419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买入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9"/>
          <p:cNvSpPr/>
          <p:nvPr/>
        </p:nvSpPr>
        <p:spPr>
          <a:xfrm>
            <a:off x="4268880" y="3657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卖出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0"/>
          <p:cNvSpPr/>
          <p:nvPr/>
        </p:nvSpPr>
        <p:spPr>
          <a:xfrm>
            <a:off x="7044480" y="4264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市场价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7"/>
          <p:cNvSpPr/>
          <p:nvPr/>
        </p:nvSpPr>
        <p:spPr>
          <a:xfrm>
            <a:off x="2303640" y="2133720"/>
            <a:ext cx="5221080" cy="107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218b"/>
                </a:solidFill>
                <a:latin typeface="华文楷体"/>
                <a:ea typeface="华文楷体"/>
              </a:rPr>
              <a:t>国债期货交易策略及案例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2:00:03Z</dcterms:created>
  <dc:creator>陈泽滨</dc:creator>
  <dc:description/>
  <dc:language>en-US</dc:language>
  <cp:lastModifiedBy>Yitan Wang</cp:lastModifiedBy>
  <dcterms:modified xsi:type="dcterms:W3CDTF">2024-04-08T01:08:12Z</dcterms:modified>
  <cp:revision>52</cp:revision>
  <dc:subject/>
  <dc:title>PowerPoint 演示文稿</dc:title>
</cp:coreProperties>
</file>